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DB92-2CD7-4610-A2D1-01597E93C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38E0-75CB-4A18-A819-86BEA21C7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52F9-75B4-4C72-8754-17B07B5E7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8226-1BC3-4287-B27F-F5E78D87B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49E8-C142-458B-8784-0F46722C3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6DAE-3019-4CE1-9BDE-6B7E6EB3B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60A8-1CAA-4CD3-AE51-160A8AAB7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7CB4-7A50-4720-B581-15F50A86B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3712-FF5D-467F-8BAE-DDB854273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93AE-36CD-405C-8126-1C8930A71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7109-7D44-4E46-BF26-1E7601FEE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F248-024E-4729-B8F9-B4AF3BACC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18FB-E498-4C56-96AB-2578ABE456F7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Hello World plu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Hello World plugin továbbfejlesztése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6-10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78C8-CAB6-4AE3-9BB5-5F04A6AB04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gondolat, észrevét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ima SWT alapú az edit abla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Hasonló egyéb widget megoldásokhoz (AWT, Swing), de gyorsabb és gazdagabb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WT alkalmazás is készíthető, mint az AWT esetén, bár natív kódrészletek miatt gyengén platform független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895F-40DB-4477-8264-640F8ED806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ditor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óbáljunk közösen létrehozni egy Editort, amely a beépített IE motort (win32) használ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D227-9BC5-43D0-BF9A-FC66C0618A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1T12:16:14Z</dcterms:modified>
  <cp:revision>544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